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B8C3-42E0-411F-9274-F5DD1B378ACF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A4D9-79AC-4969-BE4C-38FAAEDD14A1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6012-B018-4514-8299-8EED9EF1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DC83-B3DF-40D0-ADB7-49FAD3D5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F84-B0ED-47DD-B8D7-4F9FB6C2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DC61-E081-42E0-B64B-DFBA0FA2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7FB2-30E3-47BD-9771-55D3AC88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6A8D-090D-4F6B-9166-01FB027C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1741-362F-4D25-AF68-F8254F98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C613-72DF-4070-A02D-92708587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80D9-2318-4A26-97D4-B1D6D002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A86A-52BE-40B7-8DBE-65EF27C5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BDA7-0A15-40AC-86F8-01C1F15E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2520-7084-4002-B74F-91BC3DD4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61DE-33F0-4D07-903D-4FD7EC97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6A91-37F1-4B96-8A63-E1EF7F8F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F60F-0DB1-4DAF-BAA2-DC61006D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D786-0F80-47E7-8646-547B6EE8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D0B0-893D-4A60-951A-614381D7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4F35-2BBD-4999-85E3-C7578FE0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5C8A-37E2-401A-BAF7-69C6C6E7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4AEE-9FD6-4C0F-895E-1A668D96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20FD-CB76-4B08-B09C-CE8C4314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B6A8-759D-4261-9DD2-D485DCD0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57A2-D46C-42D5-8DB1-A510CDD9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062F-9293-455D-9534-E92E9B5A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FBC1-A18F-4350-8EF6-839E92D4562A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0693-9571-4C38-A063-F6485A62A62B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3AC3-C7E9-4BB3-ABBE-EC470BAC6921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982E-5F08-4F66-B019-4C4343B70248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689040" y="927000"/>
            <a:ext cx="8180280" cy="3784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785960" y="4285800"/>
            <a:ext cx="6400800" cy="924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072428"/>
                </a:solidFill>
                <a:latin typeface="Calibri"/>
              </a:rPr>
              <a:t>“</a:t>
            </a:r>
            <a:r>
              <a:rPr b="1" lang="en-ZA" sz="4000" spc="-1" strike="noStrike">
                <a:solidFill>
                  <a:srgbClr val="072428"/>
                </a:solidFill>
                <a:latin typeface="Calibri"/>
              </a:rPr>
              <a:t>A dog is man’s best friend”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357120" y="1474920"/>
            <a:ext cx="2286000" cy="143172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90A3-2448-4EA0-AD1B-B77305FE3091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Content Placeholder 15" descr=""/>
          <p:cNvPicPr/>
          <p:nvPr/>
        </p:nvPicPr>
        <p:blipFill>
          <a:blip r:embed="rId1"/>
          <a:stretch/>
        </p:blipFill>
        <p:spPr>
          <a:xfrm>
            <a:off x="2933640" y="1935000"/>
            <a:ext cx="3276720" cy="4389480"/>
          </a:xfrm>
          <a:prstGeom prst="rect">
            <a:avLst/>
          </a:prstGeom>
          <a:ln w="0">
            <a:noFill/>
          </a:ln>
        </p:spPr>
      </p:pic>
      <p:sp>
        <p:nvSpPr>
          <p:cNvPr id="134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FC1E-3F12-4442-A391-A040E543E2C6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2"/>
          <a:stretch/>
        </p:blipFill>
        <p:spPr>
          <a:xfrm>
            <a:off x="176040" y="628560"/>
            <a:ext cx="885852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itle 1" descr=""/>
          <p:cNvPicPr/>
          <p:nvPr/>
        </p:nvPicPr>
        <p:blipFill>
          <a:blip r:embed="rId1"/>
          <a:stretch/>
        </p:blipFill>
        <p:spPr>
          <a:xfrm>
            <a:off x="689040" y="1212840"/>
            <a:ext cx="8223120" cy="16398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2428560"/>
            <a:ext cx="7772400" cy="238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Calibri"/>
              </a:rPr>
              <a:t>Juliette Cunliffe: "</a:t>
            </a:r>
            <a:r>
              <a:rPr b="0" i="1" lang="en-ZA" sz="3200" spc="-1" strike="noStrike">
                <a:solidFill>
                  <a:srgbClr val="000000"/>
                </a:solidFill>
                <a:latin typeface="Calibri"/>
              </a:rPr>
              <a:t>The illustrated Directory of Dogs</a:t>
            </a:r>
            <a:r>
              <a:rPr b="0" lang="en-ZA" sz="3200" spc="-1" strike="noStrike">
                <a:solidFill>
                  <a:srgbClr val="000000"/>
                </a:solidFill>
                <a:latin typeface="Calibri"/>
              </a:rPr>
              <a:t>" Colin Gower Enterprises, United Kingdom, 2007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88AE-FB65-4098-8456-6FF918ADD6CE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7200" spc="-1" strike="noStrike">
                <a:solidFill>
                  <a:srgbClr val="072428"/>
                </a:solidFill>
                <a:latin typeface="Calibri"/>
              </a:rPr>
              <a:t>CONTENTS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Slide 3</a:t>
            </a: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	</a:t>
            </a: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Die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Slide 4</a:t>
            </a: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	</a:t>
            </a: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Visit the veterinary clinic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Slide 5</a:t>
            </a: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	</a:t>
            </a: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Fleas and tick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Slide 6</a:t>
            </a: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	</a:t>
            </a: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Groom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Slide 7</a:t>
            </a: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	</a:t>
            </a:r>
            <a:r>
              <a:rPr b="1" lang="en-ZA" sz="3200" spc="-1" strike="noStrike">
                <a:solidFill>
                  <a:srgbClr val="083763"/>
                </a:solidFill>
                <a:latin typeface="Calibri"/>
              </a:rPr>
              <a:t>Be responsibl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Slide 8</a:t>
            </a: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Slide 11</a:t>
            </a: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83763"/>
                </a:solidFill>
                <a:latin typeface="Calibri"/>
              </a:rPr>
              <a:t>Sourc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D59A-75B1-4832-B70B-09E94557A919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7200" spc="-1" strike="noStrike">
                <a:solidFill>
                  <a:srgbClr val="072428"/>
                </a:solidFill>
                <a:latin typeface="Calibri"/>
              </a:rPr>
              <a:t>Diet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  <a:ea typeface="Calibri"/>
              </a:rPr>
              <a:t>Clean fresh water at all time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  <a:ea typeface="Calibri"/>
              </a:rPr>
              <a:t>Well balanced diet: protein and carbohydrate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  <a:ea typeface="Calibri"/>
              </a:rPr>
              <a:t>Vitamins and minerals for healthy skin and coat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  <a:ea typeface="Calibri"/>
              </a:rPr>
              <a:t>Fruit and vegetables are beneficial to the diet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C994-0B94-4045-A57B-262C8FA2DAD4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6000" spc="-1" strike="noStrike">
                <a:solidFill>
                  <a:srgbClr val="072428"/>
                </a:solidFill>
                <a:latin typeface="Calibri"/>
              </a:rPr>
              <a:t>Visit the veterinary clinic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Take your dog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for a good health check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for vaccination against disease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if it does not eat or drink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5510160" y="2000160"/>
            <a:ext cx="2519280" cy="357192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EF58-F045-4B18-9342-A2419BB7DBA3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7200" spc="-1" strike="noStrike">
                <a:solidFill>
                  <a:srgbClr val="072428"/>
                </a:solidFill>
                <a:latin typeface="Calibri"/>
              </a:rPr>
              <a:t>Fleas and ticks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Parasites in  the environment jump onto pet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It causes disease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Get advice about products to get rid of it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Deworm puppies and dog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453C-2589-4D1F-A8DA-003F76119B8C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7200" spc="-1" strike="noStrike">
                <a:solidFill>
                  <a:srgbClr val="072428"/>
                </a:solidFill>
                <a:latin typeface="Calibri"/>
              </a:rPr>
              <a:t>Grooming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Use a ‘hound glove’ or a suitable brush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Trim the nail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Trim hair between the pad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Keep the ears clean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Clean the teeth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CA8B-6FE3-4C1A-BC38-DFD8FF1FDF38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168720" cy="2365200"/>
          </a:xfrm>
          <a:prstGeom prst="rect">
            <a:avLst/>
          </a:prstGeom>
          <a:ln w="0">
            <a:noFill/>
          </a:ln>
        </p:spPr>
      </p:pic>
      <p:pic>
        <p:nvPicPr>
          <p:cNvPr id="123" name="Title 1" descr=""/>
          <p:cNvPicPr/>
          <p:nvPr/>
        </p:nvPicPr>
        <p:blipFill>
          <a:blip r:embed="rId2"/>
          <a:stretch/>
        </p:blipFill>
        <p:spPr>
          <a:xfrm>
            <a:off x="-60480" y="285840"/>
            <a:ext cx="8375760" cy="2023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01560" y="1915920"/>
            <a:ext cx="7772400" cy="403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72880" indent="-272880">
              <a:lnSpc>
                <a:spcPct val="12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Avoid obesity: no tid-bits between meal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Give him his own ‘safe place’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Provide a secure yar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Never leave a dog in a ca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7B0C-F400-49FC-A7F3-639872AE8674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-92160" y="469800"/>
            <a:ext cx="8858160" cy="19195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539640" y="2155680"/>
            <a:ext cx="54421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Basic obedience: the meaning of 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Good toilet habi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Walk with a lea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Calibri"/>
              </a:rPr>
              <a:t>Give plenty of praise if he has done something goo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6516720" y="2359080"/>
            <a:ext cx="1646280" cy="2979720"/>
          </a:xfrm>
          <a:prstGeom prst="rect">
            <a:avLst/>
          </a:prstGeom>
          <a:ln w="0">
            <a:noFill/>
          </a:ln>
        </p:spPr>
      </p:pic>
      <p:sp>
        <p:nvSpPr>
          <p:cNvPr id="129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1BE4-B1A7-46EB-AFD7-871F575B1CE5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09120" y="549000"/>
            <a:ext cx="2319480" cy="51116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72428"/>
                </a:solidFill>
                <a:latin typeface="Calibri"/>
                <a:ea typeface="Calibri"/>
              </a:rPr>
              <a:t>Buy a </a:t>
            </a:r>
            <a:r>
              <a:rPr b="1" lang="en-ZA" sz="3600" spc="-1" strike="noStrike">
                <a:solidFill>
                  <a:srgbClr val="072428"/>
                </a:solidFill>
                <a:latin typeface="Calibri"/>
                <a:ea typeface="Calibri"/>
              </a:rPr>
              <a:t>puppy</a:t>
            </a:r>
            <a:r>
              <a:rPr b="0" lang="en-ZA" sz="3600" spc="-1" strike="noStrike">
                <a:solidFill>
                  <a:srgbClr val="072428"/>
                </a:solidFill>
                <a:latin typeface="Calibri"/>
                <a:ea typeface="Calibri"/>
              </a:rPr>
              <a:t> and your money will buy love unflinching than cannot lie</a:t>
            </a:r>
            <a:r>
              <a:rPr b="0" lang="en-ZA" sz="36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Placeholder 3" descr=""/>
          <p:cNvPicPr/>
          <p:nvPr/>
        </p:nvPicPr>
        <p:blipFill>
          <a:blip r:embed="rId1"/>
          <a:srcRect l="0" t="18104" r="0" b="18104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132" name="Slide Number Placeholder 1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CAAF-0552-4FA3-9B95-4886B29595BF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18:33:54Z</dcterms:created>
  <dc:creator/>
  <dc:description/>
  <dc:language>en-US</dc:language>
  <cp:lastModifiedBy/>
  <dcterms:modified xsi:type="dcterms:W3CDTF">2012-11-11T19:11:32Z</dcterms:modified>
  <cp:revision>1</cp:revision>
  <dc:subject/>
  <dc:title/>
</cp:coreProperties>
</file>